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7" name=""/>
          <p:cNvSpPr/>
          <p:nvPr/>
        </p:nvSpPr>
        <p:spPr>
          <a:xfrm>
            <a:off x="1231920" y="7430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algebra tiles to model algebraic expres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" name=""/>
          <p:cNvGrpSpPr/>
          <p:nvPr/>
        </p:nvGrpSpPr>
        <p:grpSpPr>
          <a:xfrm>
            <a:off x="1374840" y="3670200"/>
            <a:ext cx="2133360" cy="457200"/>
            <a:chOff x="1374840" y="3670200"/>
            <a:chExt cx="2133360" cy="457200"/>
          </a:xfrm>
        </p:grpSpPr>
        <p:sp>
          <p:nvSpPr>
            <p:cNvPr id="39" name=""/>
            <p:cNvSpPr/>
            <p:nvPr/>
          </p:nvSpPr>
          <p:spPr>
            <a:xfrm>
              <a:off x="2593800" y="367020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51000" y="367020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374840" y="3670200"/>
              <a:ext cx="1218960" cy="457200"/>
            </a:xfrm>
            <a:prstGeom prst="roundRect">
              <a:avLst>
                <a:gd name="adj" fmla="val 16667"/>
              </a:avLst>
            </a:prstGeom>
            <a:solidFill>
              <a:srgbClr val="008f6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" name=""/>
          <p:cNvSpPr/>
          <p:nvPr/>
        </p:nvSpPr>
        <p:spPr>
          <a:xfrm>
            <a:off x="2095560" y="135900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60440" y="183528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54280" y="1434960"/>
            <a:ext cx="16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73320" y="1384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64280" y="2238480"/>
            <a:ext cx="24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1-by-1 square tile ha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ea of 1 square un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11080" y="1409760"/>
            <a:ext cx="46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59320" y="135900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008f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4400" y="1835280"/>
            <a:ext cx="24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81960" y="1409760"/>
            <a:ext cx="228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68880" y="2238480"/>
            <a:ext cx="2666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1-by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quare tile ha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 area of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quare un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4840" y="4584600"/>
            <a:ext cx="2133360" cy="457200"/>
            <a:chOff x="1374840" y="4584600"/>
            <a:chExt cx="2133360" cy="457200"/>
          </a:xfrm>
        </p:grpSpPr>
        <p:sp>
          <p:nvSpPr>
            <p:cNvPr id="53" name=""/>
            <p:cNvSpPr/>
            <p:nvPr/>
          </p:nvSpPr>
          <p:spPr>
            <a:xfrm>
              <a:off x="2593800" y="458460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51000" y="458460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74840" y="4584600"/>
              <a:ext cx="1218960" cy="457200"/>
            </a:xfrm>
            <a:prstGeom prst="roundRect">
              <a:avLst>
                <a:gd name="adj" fmla="val 16667"/>
              </a:avLst>
            </a:prstGeom>
            <a:solidFill>
              <a:srgbClr val="008f6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568680" y="3657600"/>
            <a:ext cx="684000" cy="1371240"/>
            <a:chOff x="3568680" y="3657600"/>
            <a:chExt cx="684000" cy="1371240"/>
          </a:xfrm>
        </p:grpSpPr>
        <p:sp>
          <p:nvSpPr>
            <p:cNvPr id="57" name=""/>
            <p:cNvSpPr/>
            <p:nvPr/>
          </p:nvSpPr>
          <p:spPr>
            <a:xfrm>
              <a:off x="3919680" y="414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68680" y="3657600"/>
              <a:ext cx="381240" cy="137124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35640 h 1371240"/>
                <a:gd name="textAreaBottom" fmla="*/ 133560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371240" y="5105520"/>
            <a:ext cx="2120760" cy="610200"/>
            <a:chOff x="1371240" y="5105520"/>
            <a:chExt cx="2120760" cy="610200"/>
          </a:xfrm>
        </p:grpSpPr>
        <p:sp>
          <p:nvSpPr>
            <p:cNvPr id="60" name=""/>
            <p:cNvSpPr/>
            <p:nvPr/>
          </p:nvSpPr>
          <p:spPr>
            <a:xfrm>
              <a:off x="2119680" y="5349600"/>
              <a:ext cx="61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5400000">
              <a:off x="2279160" y="4197240"/>
              <a:ext cx="304560" cy="212076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080 h 2120760"/>
                <a:gd name="textAreaBottom" fmla="*/ 2065680 h 212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7"/>
                  </a:lnTo>
                  <a:cubicBezTo>
                    <a:pt x="10800" y="9917"/>
                    <a:pt x="16200" y="10817"/>
                    <a:pt x="21600" y="10817"/>
                  </a:cubicBezTo>
                  <a:cubicBezTo>
                    <a:pt x="16200" y="10817"/>
                    <a:pt x="10800" y="11717"/>
                    <a:pt x="10800" y="1261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397160" y="5734080"/>
            <a:ext cx="2111040" cy="36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277040" y="3657600"/>
            <a:ext cx="914400" cy="1371600"/>
            <a:chOff x="7277040" y="3657600"/>
            <a:chExt cx="914400" cy="1371600"/>
          </a:xfrm>
        </p:grpSpPr>
        <p:sp>
          <p:nvSpPr>
            <p:cNvPr id="64" name=""/>
            <p:cNvSpPr/>
            <p:nvPr/>
          </p:nvSpPr>
          <p:spPr>
            <a:xfrm>
              <a:off x="7277040" y="365760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34240" y="365760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77040" y="411480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34240" y="411480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34240" y="457200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77040" y="457200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277040" y="3657600"/>
            <a:ext cx="1674720" cy="2067840"/>
            <a:chOff x="7277040" y="3657600"/>
            <a:chExt cx="1674720" cy="2067840"/>
          </a:xfrm>
        </p:grpSpPr>
        <p:grpSp>
          <p:nvGrpSpPr>
            <p:cNvPr id="71" name=""/>
            <p:cNvGrpSpPr/>
            <p:nvPr/>
          </p:nvGrpSpPr>
          <p:grpSpPr>
            <a:xfrm>
              <a:off x="8267760" y="3657600"/>
              <a:ext cx="684000" cy="1371240"/>
              <a:chOff x="8267760" y="3657600"/>
              <a:chExt cx="684000" cy="1371240"/>
            </a:xfrm>
          </p:grpSpPr>
          <p:sp>
            <p:nvSpPr>
              <p:cNvPr id="72" name=""/>
              <p:cNvSpPr/>
              <p:nvPr/>
            </p:nvSpPr>
            <p:spPr>
              <a:xfrm>
                <a:off x="8618760" y="414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67760" y="3657600"/>
                <a:ext cx="381240" cy="1371240"/>
              </a:xfrm>
              <a:custGeom>
                <a:avLst/>
                <a:gdLst>
                  <a:gd name="textAreaLeft" fmla="*/ 0 w 381240"/>
                  <a:gd name="textAreaRight" fmla="*/ 137520 w 381240"/>
                  <a:gd name="textAreaTop" fmla="*/ 35640 h 1371240"/>
                  <a:gd name="textAreaBottom" fmla="*/ 1335600 h 137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277040" y="5105160"/>
              <a:ext cx="914400" cy="620280"/>
              <a:chOff x="7277040" y="5105160"/>
              <a:chExt cx="914400" cy="620280"/>
            </a:xfrm>
          </p:grpSpPr>
          <p:sp>
            <p:nvSpPr>
              <p:cNvPr id="75" name=""/>
              <p:cNvSpPr/>
              <p:nvPr/>
            </p:nvSpPr>
            <p:spPr>
              <a:xfrm rot="5400000">
                <a:off x="7594560" y="4787640"/>
                <a:ext cx="279360" cy="914400"/>
              </a:xfrm>
              <a:custGeom>
                <a:avLst/>
                <a:gdLst>
                  <a:gd name="textAreaLeft" fmla="*/ 0 w 279360"/>
                  <a:gd name="textAreaRight" fmla="*/ 100800 w 27936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8505"/>
                    </a:lnTo>
                    <a:cubicBezTo>
                      <a:pt x="10800" y="9405"/>
                      <a:pt x="16200" y="10305"/>
                      <a:pt x="21600" y="10305"/>
                    </a:cubicBezTo>
                    <a:cubicBezTo>
                      <a:pt x="16200" y="10305"/>
                      <a:pt x="10800" y="11205"/>
                      <a:pt x="10800" y="12105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96080" y="53593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5029200" y="3657600"/>
            <a:ext cx="1218960" cy="1371600"/>
            <a:chOff x="5029200" y="3657600"/>
            <a:chExt cx="1218960" cy="1371600"/>
          </a:xfrm>
        </p:grpSpPr>
        <p:sp>
          <p:nvSpPr>
            <p:cNvPr id="78" name=""/>
            <p:cNvSpPr/>
            <p:nvPr/>
          </p:nvSpPr>
          <p:spPr>
            <a:xfrm>
              <a:off x="5029200" y="3657600"/>
              <a:ext cx="1218960" cy="457200"/>
            </a:xfrm>
            <a:prstGeom prst="roundRect">
              <a:avLst>
                <a:gd name="adj" fmla="val 16667"/>
              </a:avLst>
            </a:prstGeom>
            <a:solidFill>
              <a:srgbClr val="008f6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29200" y="4114800"/>
              <a:ext cx="1218960" cy="457200"/>
            </a:xfrm>
            <a:prstGeom prst="roundRect">
              <a:avLst>
                <a:gd name="adj" fmla="val 16667"/>
              </a:avLst>
            </a:prstGeom>
            <a:solidFill>
              <a:srgbClr val="008f6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29200" y="4572000"/>
              <a:ext cx="1218960" cy="457200"/>
            </a:xfrm>
            <a:prstGeom prst="roundRect">
              <a:avLst>
                <a:gd name="adj" fmla="val 16667"/>
              </a:avLst>
            </a:prstGeom>
            <a:solidFill>
              <a:srgbClr val="008f6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029200" y="3657600"/>
            <a:ext cx="1978560" cy="2058120"/>
            <a:chOff x="5029200" y="3657600"/>
            <a:chExt cx="1978560" cy="2058120"/>
          </a:xfrm>
        </p:grpSpPr>
        <p:grpSp>
          <p:nvGrpSpPr>
            <p:cNvPr id="82" name=""/>
            <p:cNvGrpSpPr/>
            <p:nvPr/>
          </p:nvGrpSpPr>
          <p:grpSpPr>
            <a:xfrm>
              <a:off x="6324480" y="3657600"/>
              <a:ext cx="683280" cy="1371240"/>
              <a:chOff x="6324480" y="3657600"/>
              <a:chExt cx="683280" cy="1371240"/>
            </a:xfrm>
          </p:grpSpPr>
          <p:sp>
            <p:nvSpPr>
              <p:cNvPr id="83" name=""/>
              <p:cNvSpPr/>
              <p:nvPr/>
            </p:nvSpPr>
            <p:spPr>
              <a:xfrm>
                <a:off x="6674760" y="414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324480" y="3657600"/>
                <a:ext cx="380520" cy="1371240"/>
              </a:xfrm>
              <a:custGeom>
                <a:avLst/>
                <a:gdLst>
                  <a:gd name="textAreaLeft" fmla="*/ 0 w 380520"/>
                  <a:gd name="textAreaRight" fmla="*/ 137520 w 380520"/>
                  <a:gd name="textAreaTop" fmla="*/ 35640 h 1371240"/>
                  <a:gd name="textAreaBottom" fmla="*/ 1335600 h 137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5029200" y="5105160"/>
              <a:ext cx="1206000" cy="610560"/>
              <a:chOff x="5029200" y="5105160"/>
              <a:chExt cx="1206000" cy="610560"/>
            </a:xfrm>
          </p:grpSpPr>
          <p:sp>
            <p:nvSpPr>
              <p:cNvPr id="86" name=""/>
              <p:cNvSpPr/>
              <p:nvPr/>
            </p:nvSpPr>
            <p:spPr>
              <a:xfrm>
                <a:off x="5578200" y="5349600"/>
                <a:ext cx="212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5400000">
                <a:off x="5479560" y="4654440"/>
                <a:ext cx="304920" cy="1206000"/>
              </a:xfrm>
              <a:custGeom>
                <a:avLst/>
                <a:gdLst>
                  <a:gd name="textAreaLeft" fmla="*/ 0 w 304920"/>
                  <a:gd name="textAreaRight" fmla="*/ 110160 w 304920"/>
                  <a:gd name="textAreaTop" fmla="*/ 31320 h 1206000"/>
                  <a:gd name="textAreaBottom" fmla="*/ 1174680 h 120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89"/>
                    </a:lnTo>
                    <a:cubicBezTo>
                      <a:pt x="10800" y="9989"/>
                      <a:pt x="16200" y="10889"/>
                      <a:pt x="21600" y="10889"/>
                    </a:cubicBezTo>
                    <a:cubicBezTo>
                      <a:pt x="16200" y="10889"/>
                      <a:pt x="10800" y="11789"/>
                      <a:pt x="10800" y="12689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"/>
          <p:cNvSpPr/>
          <p:nvPr/>
        </p:nvSpPr>
        <p:spPr>
          <a:xfrm>
            <a:off x="4191120" y="4114800"/>
            <a:ext cx="711000" cy="533520"/>
          </a:xfrm>
          <a:custGeom>
            <a:avLst/>
            <a:gdLst>
              <a:gd name="textAreaLeft" fmla="*/ 110880 w 711000"/>
              <a:gd name="textAreaRight" fmla="*/ 568080 w 71100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914"/>
                </a:moveTo>
                <a:lnTo>
                  <a:pt x="12005" y="5914"/>
                </a:lnTo>
                <a:lnTo>
                  <a:pt x="12005" y="0"/>
                </a:lnTo>
                <a:lnTo>
                  <a:pt x="21600" y="10800"/>
                </a:lnTo>
                <a:lnTo>
                  <a:pt x="12005" y="21600"/>
                </a:lnTo>
                <a:lnTo>
                  <a:pt x="12005" y="15686"/>
                </a:lnTo>
                <a:lnTo>
                  <a:pt x="3375" y="15686"/>
                </a:lnTo>
                <a:close/>
              </a:path>
              <a:path w="21600" h="21600">
                <a:moveTo>
                  <a:pt x="0" y="5914"/>
                </a:moveTo>
                <a:lnTo>
                  <a:pt x="675" y="5914"/>
                </a:lnTo>
                <a:lnTo>
                  <a:pt x="675" y="15686"/>
                </a:lnTo>
                <a:lnTo>
                  <a:pt x="0" y="15686"/>
                </a:lnTo>
                <a:close/>
              </a:path>
              <a:path w="21600" h="21600">
                <a:moveTo>
                  <a:pt x="1350" y="5914"/>
                </a:moveTo>
                <a:lnTo>
                  <a:pt x="2700" y="5914"/>
                </a:lnTo>
                <a:lnTo>
                  <a:pt x="2700" y="15686"/>
                </a:lnTo>
                <a:lnTo>
                  <a:pt x="1350" y="15686"/>
                </a:lnTo>
                <a:close/>
              </a:path>
            </a:pathLst>
          </a:custGeom>
          <a:gradFill rotWithShape="0">
            <a:gsLst>
              <a:gs pos="0">
                <a:srgbClr val="ffe5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41800" y="5734080"/>
            <a:ext cx="3140280" cy="36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9760" y="3025800"/>
            <a:ext cx="676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51a1"/>
                </a:solidFill>
                <a:latin typeface="Arial"/>
              </a:rPr>
              <a:t>Model the Distributive Property using Algebra T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60520" y="6224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94240" y="5676840"/>
            <a:ext cx="1320840" cy="511200"/>
          </a:xfrm>
          <a:custGeom>
            <a:avLst/>
            <a:gdLst>
              <a:gd name="textAreaLeft" fmla="*/ 206280 w 1320840"/>
              <a:gd name="textAreaRight" fmla="*/ 1153800 w 1320840"/>
              <a:gd name="textAreaTop" fmla="*/ 115200 h 511200"/>
              <a:gd name="textAreaBottom" fmla="*/ 396000 h 511200"/>
            </a:gdLst>
            <a:ahLst/>
            <a:rect l="textAreaLeft" t="textAreaTop" r="textAreaRight" b="textAreaBottom"/>
            <a:pathLst>
              <a:path w="21600" h="21600">
                <a:moveTo>
                  <a:pt x="3375" y="4871"/>
                </a:moveTo>
                <a:lnTo>
                  <a:pt x="16615" y="4871"/>
                </a:lnTo>
                <a:lnTo>
                  <a:pt x="16615" y="0"/>
                </a:lnTo>
                <a:lnTo>
                  <a:pt x="21600" y="10800"/>
                </a:lnTo>
                <a:lnTo>
                  <a:pt x="16615" y="21600"/>
                </a:lnTo>
                <a:lnTo>
                  <a:pt x="16615" y="16729"/>
                </a:lnTo>
                <a:lnTo>
                  <a:pt x="3375" y="16729"/>
                </a:lnTo>
                <a:close/>
              </a:path>
              <a:path w="21600" h="21600">
                <a:moveTo>
                  <a:pt x="0" y="4871"/>
                </a:moveTo>
                <a:lnTo>
                  <a:pt x="675" y="4871"/>
                </a:lnTo>
                <a:lnTo>
                  <a:pt x="675" y="16729"/>
                </a:lnTo>
                <a:lnTo>
                  <a:pt x="0" y="16729"/>
                </a:lnTo>
                <a:close/>
              </a:path>
              <a:path w="21600" h="21600">
                <a:moveTo>
                  <a:pt x="1350" y="4871"/>
                </a:moveTo>
                <a:lnTo>
                  <a:pt x="2700" y="4871"/>
                </a:lnTo>
                <a:lnTo>
                  <a:pt x="2700" y="16729"/>
                </a:lnTo>
                <a:lnTo>
                  <a:pt x="1350" y="16729"/>
                </a:lnTo>
                <a:close/>
              </a:path>
            </a:pathLst>
          </a:custGeom>
          <a:gradFill rotWithShape="0">
            <a:gsLst>
              <a:gs pos="0">
                <a:srgbClr val="ffe5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374840" y="4127400"/>
            <a:ext cx="2133360" cy="457200"/>
            <a:chOff x="1374840" y="4127400"/>
            <a:chExt cx="2133360" cy="457200"/>
          </a:xfrm>
        </p:grpSpPr>
        <p:sp>
          <p:nvSpPr>
            <p:cNvPr id="94" name=""/>
            <p:cNvSpPr/>
            <p:nvPr/>
          </p:nvSpPr>
          <p:spPr>
            <a:xfrm>
              <a:off x="2593800" y="412740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51000" y="412740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74840" y="4127400"/>
              <a:ext cx="1218960" cy="457200"/>
            </a:xfrm>
            <a:prstGeom prst="roundRect">
              <a:avLst>
                <a:gd name="adj" fmla="val 16667"/>
              </a:avLst>
            </a:prstGeom>
            <a:solidFill>
              <a:srgbClr val="008f6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348200" y="216000"/>
            <a:ext cx="549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DELING THE 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STRIBUTIVE 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96800" y="4191120"/>
            <a:ext cx="2082600" cy="960120"/>
            <a:chOff x="1396800" y="4191120"/>
            <a:chExt cx="2082600" cy="960120"/>
          </a:xfrm>
        </p:grpSpPr>
        <p:sp>
          <p:nvSpPr>
            <p:cNvPr id="99" name=""/>
            <p:cNvSpPr/>
            <p:nvPr/>
          </p:nvSpPr>
          <p:spPr>
            <a:xfrm>
              <a:off x="2120760" y="4419360"/>
              <a:ext cx="6289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5400000">
              <a:off x="2285640" y="3301920"/>
              <a:ext cx="304560" cy="20826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4000 h 2082600"/>
                <a:gd name="textAreaBottom" fmla="*/ 2028600 h 208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7"/>
                  </a:lnTo>
                  <a:cubicBezTo>
                    <a:pt x="10800" y="9917"/>
                    <a:pt x="16200" y="10817"/>
                    <a:pt x="21600" y="10817"/>
                  </a:cubicBezTo>
                  <a:cubicBezTo>
                    <a:pt x="16200" y="10817"/>
                    <a:pt x="10800" y="11717"/>
                    <a:pt x="10800" y="1261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371600" y="2959200"/>
            <a:ext cx="6816600" cy="66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96960" y="4152960"/>
            <a:ext cx="17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6120" y="-144360"/>
            <a:ext cx="91944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876240" y="838080"/>
            <a:ext cx="7850160" cy="3086280"/>
            <a:chOff x="876240" y="838080"/>
            <a:chExt cx="7850160" cy="3086280"/>
          </a:xfrm>
        </p:grpSpPr>
        <p:sp>
          <p:nvSpPr>
            <p:cNvPr id="106" name=""/>
            <p:cNvSpPr/>
            <p:nvPr/>
          </p:nvSpPr>
          <p:spPr>
            <a:xfrm>
              <a:off x="876240" y="838080"/>
              <a:ext cx="7850160" cy="308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76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6240" y="838080"/>
              <a:ext cx="7850160" cy="381240"/>
            </a:xfrm>
            <a:prstGeom prst="rect">
              <a:avLst/>
            </a:prstGeom>
            <a:solidFill>
              <a:srgbClr val="0587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25000" y="839880"/>
              <a:ext cx="366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STRIBUTIVE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OPER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036800" y="1376280"/>
            <a:ext cx="34160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72080" y="2265480"/>
            <a:ext cx="2211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7400" y="3274920"/>
            <a:ext cx="22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80040" y="2262240"/>
            <a:ext cx="97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43440" y="2262240"/>
            <a:ext cx="1409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6680" y="2262240"/>
            <a:ext cx="91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80040" y="3265560"/>
            <a:ext cx="97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74760" y="3265560"/>
            <a:ext cx="132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6680" y="3265560"/>
            <a:ext cx="91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56000" y="2724120"/>
            <a:ext cx="768240" cy="465120"/>
          </a:xfrm>
          <a:custGeom>
            <a:avLst/>
            <a:gdLst>
              <a:gd name="textAreaLeft" fmla="*/ 119880 w 768240"/>
              <a:gd name="textAreaRight" fmla="*/ 602280 w 768240"/>
              <a:gd name="textAreaTop" fmla="*/ 95040 h 465120"/>
              <a:gd name="textAreaBottom" fmla="*/ 370080 h 465120"/>
            </a:gdLst>
            <a:ahLst/>
            <a:rect l="textAreaLeft" t="textAreaTop" r="textAreaRight" b="textAreaBottom"/>
            <a:pathLst>
              <a:path w="21600" h="21600">
                <a:moveTo>
                  <a:pt x="3375" y="4423"/>
                </a:moveTo>
                <a:lnTo>
                  <a:pt x="13685" y="4423"/>
                </a:lnTo>
                <a:lnTo>
                  <a:pt x="13685" y="0"/>
                </a:lnTo>
                <a:lnTo>
                  <a:pt x="21600" y="10800"/>
                </a:lnTo>
                <a:lnTo>
                  <a:pt x="13685" y="21600"/>
                </a:lnTo>
                <a:lnTo>
                  <a:pt x="13685" y="17177"/>
                </a:lnTo>
                <a:lnTo>
                  <a:pt x="3375" y="17177"/>
                </a:lnTo>
                <a:close/>
              </a:path>
              <a:path w="21600" h="21600">
                <a:moveTo>
                  <a:pt x="0" y="4423"/>
                </a:moveTo>
                <a:lnTo>
                  <a:pt x="675" y="4423"/>
                </a:lnTo>
                <a:lnTo>
                  <a:pt x="675" y="17177"/>
                </a:lnTo>
                <a:lnTo>
                  <a:pt x="0" y="17177"/>
                </a:lnTo>
                <a:close/>
              </a:path>
              <a:path w="21600" h="21600">
                <a:moveTo>
                  <a:pt x="1350" y="4423"/>
                </a:moveTo>
                <a:lnTo>
                  <a:pt x="2700" y="4423"/>
                </a:lnTo>
                <a:lnTo>
                  <a:pt x="2700" y="17177"/>
                </a:lnTo>
                <a:lnTo>
                  <a:pt x="1350" y="17177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27760" y="5648400"/>
            <a:ext cx="112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97360" y="5648400"/>
            <a:ext cx="1478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7400" y="5648400"/>
            <a:ext cx="998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59240" y="4614840"/>
            <a:ext cx="933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2920" y="4614840"/>
            <a:ext cx="147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62960" y="4614840"/>
            <a:ext cx="882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95120" y="203040"/>
            <a:ext cx="6075000" cy="446400"/>
            <a:chOff x="195120" y="203040"/>
            <a:chExt cx="6075000" cy="44640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195120" y="20304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348200" y="216000"/>
              <a:ext cx="4921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THE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STRIBUTIVE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460520" y="6224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40240" y="22161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40240" y="3219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64000" y="5580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45687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92800" y="22161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92800" y="3219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16560" y="5580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16560" y="45687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8640" y="1376280"/>
            <a:ext cx="37335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9880" y="1393920"/>
            <a:ext cx="34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product of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(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84040" y="2610720"/>
            <a:ext cx="729000" cy="719280"/>
          </a:xfrm>
          <a:prstGeom prst="line">
            <a:avLst/>
          </a:prstGeom>
          <a:ln w="76320">
            <a:solidFill>
              <a:srgbClr val="ffcc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490760" y="2590920"/>
            <a:ext cx="203040" cy="761760"/>
          </a:xfrm>
          <a:prstGeom prst="line">
            <a:avLst/>
          </a:prstGeom>
          <a:ln w="76320">
            <a:solidFill>
              <a:srgbClr val="ffcc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27200" y="2603520"/>
            <a:ext cx="0" cy="747720"/>
          </a:xfrm>
          <a:prstGeom prst="line">
            <a:avLst/>
          </a:prstGeom>
          <a:ln w="76320">
            <a:solidFill>
              <a:srgbClr val="ffcc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39920" y="2603520"/>
            <a:ext cx="0" cy="758880"/>
          </a:xfrm>
          <a:prstGeom prst="line">
            <a:avLst/>
          </a:prstGeom>
          <a:ln w="76320">
            <a:solidFill>
              <a:srgbClr val="ffcc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387520" y="4583160"/>
            <a:ext cx="1387440" cy="46044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4205880" y="1729080"/>
            <a:ext cx="945000" cy="955080"/>
            <a:chOff x="4205880" y="1729080"/>
            <a:chExt cx="945000" cy="955080"/>
          </a:xfrm>
        </p:grpSpPr>
        <p:sp>
          <p:nvSpPr>
            <p:cNvPr id="145" name=""/>
            <p:cNvSpPr/>
            <p:nvPr/>
          </p:nvSpPr>
          <p:spPr>
            <a:xfrm rot="1620600">
              <a:off x="4330800" y="1847520"/>
              <a:ext cx="695160" cy="717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956" y="15675"/>
                  </a:moveTo>
                  <a:arcTo wR="-7611" hR="-7611" stAng="8409874" swAng="-10212771"/>
                  <a:lnTo>
                    <a:pt x="1451" y="16208"/>
                  </a:lnTo>
                  <a:arcTo wR="10800" hR="10800" stAng="8997103" swAng="10212771"/>
                  <a:lnTo>
                    <a:pt x="21166" y="2152"/>
                  </a:lnTo>
                  <a:lnTo>
                    <a:pt x="20620" y="8201"/>
                  </a:lnTo>
                  <a:lnTo>
                    <a:pt x="14571" y="7654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913000">
              <a:off x="4353120" y="2086560"/>
              <a:ext cx="287280" cy="3049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793" y="15197"/>
                  </a:moveTo>
                  <a:arcTo wR="-5327" hR="-5327" stAng="7461672" swAng="-9760257"/>
                  <a:lnTo>
                    <a:pt x="2326" y="17495"/>
                  </a:lnTo>
                  <a:arcTo wR="10800" hR="10800" stAng="8501416" swAng="9760257"/>
                  <a:lnTo>
                    <a:pt x="18420" y="-344"/>
                  </a:lnTo>
                  <a:lnTo>
                    <a:pt x="19839" y="7212"/>
                  </a:lnTo>
                  <a:lnTo>
                    <a:pt x="12283" y="863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320000" y="4091400"/>
            <a:ext cx="945000" cy="955080"/>
            <a:chOff x="4320000" y="4091400"/>
            <a:chExt cx="945000" cy="955080"/>
          </a:xfrm>
        </p:grpSpPr>
        <p:sp>
          <p:nvSpPr>
            <p:cNvPr id="148" name=""/>
            <p:cNvSpPr/>
            <p:nvPr/>
          </p:nvSpPr>
          <p:spPr>
            <a:xfrm rot="1620600">
              <a:off x="4444920" y="4209840"/>
              <a:ext cx="695160" cy="717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956" y="15675"/>
                  </a:moveTo>
                  <a:arcTo wR="-7611" hR="-7611" stAng="8409874" swAng="-10212771"/>
                  <a:lnTo>
                    <a:pt x="1451" y="16208"/>
                  </a:lnTo>
                  <a:arcTo wR="10800" hR="10800" stAng="8997103" swAng="10212771"/>
                  <a:lnTo>
                    <a:pt x="21166" y="2152"/>
                  </a:lnTo>
                  <a:lnTo>
                    <a:pt x="20620" y="8201"/>
                  </a:lnTo>
                  <a:lnTo>
                    <a:pt x="14571" y="7654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913000">
              <a:off x="4467240" y="4448880"/>
              <a:ext cx="287280" cy="3049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793" y="15197"/>
                  </a:moveTo>
                  <a:arcTo wR="-5327" hR="-5327" stAng="7461672" swAng="-9760257"/>
                  <a:lnTo>
                    <a:pt x="2326" y="17495"/>
                  </a:lnTo>
                  <a:arcTo wR="10800" hR="10800" stAng="8501416" swAng="9760257"/>
                  <a:lnTo>
                    <a:pt x="18420" y="-344"/>
                  </a:lnTo>
                  <a:lnTo>
                    <a:pt x="19839" y="7212"/>
                  </a:lnTo>
                  <a:lnTo>
                    <a:pt x="12283" y="863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320360" y="2719800"/>
            <a:ext cx="945360" cy="954720"/>
            <a:chOff x="4320360" y="2719800"/>
            <a:chExt cx="945360" cy="954720"/>
          </a:xfrm>
        </p:grpSpPr>
        <p:sp>
          <p:nvSpPr>
            <p:cNvPr id="151" name=""/>
            <p:cNvSpPr/>
            <p:nvPr/>
          </p:nvSpPr>
          <p:spPr>
            <a:xfrm flipH="1" rot="19979400">
              <a:off x="4445280" y="2838240"/>
              <a:ext cx="695160" cy="717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956" y="15675"/>
                  </a:moveTo>
                  <a:arcTo wR="-7611" hR="-7611" stAng="8409874" swAng="-10212771"/>
                  <a:lnTo>
                    <a:pt x="1451" y="16208"/>
                  </a:lnTo>
                  <a:arcTo wR="10800" hR="10800" stAng="8997103" swAng="10212771"/>
                  <a:lnTo>
                    <a:pt x="21166" y="2152"/>
                  </a:lnTo>
                  <a:lnTo>
                    <a:pt x="20620" y="8201"/>
                  </a:lnTo>
                  <a:lnTo>
                    <a:pt x="14571" y="7654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rot="18687000">
              <a:off x="4830120" y="3077280"/>
              <a:ext cx="287280" cy="304920"/>
            </a:xfrm>
            <a:custGeom>
              <a:avLst/>
              <a:gdLst>
                <a:gd name="textAreaLeft" fmla="*/ 360 w 287280"/>
                <a:gd name="textAreaRight" fmla="*/ 288000 w 2872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793" y="15197"/>
                  </a:moveTo>
                  <a:arcTo wR="-5327" hR="-5327" stAng="7461672" swAng="-9760257"/>
                  <a:lnTo>
                    <a:pt x="2326" y="17495"/>
                  </a:lnTo>
                  <a:arcTo wR="10800" hR="10800" stAng="8501416" swAng="9760257"/>
                  <a:lnTo>
                    <a:pt x="18420" y="-344"/>
                  </a:lnTo>
                  <a:lnTo>
                    <a:pt x="19839" y="7212"/>
                  </a:lnTo>
                  <a:lnTo>
                    <a:pt x="12283" y="863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242240" y="5087520"/>
            <a:ext cx="1022040" cy="1017000"/>
            <a:chOff x="4242240" y="5087520"/>
            <a:chExt cx="1022040" cy="1017000"/>
          </a:xfrm>
        </p:grpSpPr>
        <p:sp>
          <p:nvSpPr>
            <p:cNvPr id="154" name=""/>
            <p:cNvSpPr/>
            <p:nvPr/>
          </p:nvSpPr>
          <p:spPr>
            <a:xfrm flipH="1" rot="19979400">
              <a:off x="4370760" y="5219640"/>
              <a:ext cx="763560" cy="752400"/>
            </a:xfrm>
            <a:custGeom>
              <a:avLst/>
              <a:gdLst>
                <a:gd name="textAreaLeft" fmla="*/ -360 w 763560"/>
                <a:gd name="textAreaRight" fmla="*/ 763560 w 763560"/>
                <a:gd name="textAreaTop" fmla="*/ 0 h 752400"/>
                <a:gd name="textAreaBottom" fmla="*/ 752760 h 75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18" y="16307"/>
                  </a:moveTo>
                  <a:arcTo wR="-7771" hR="-7771" stAng="8092181" swAng="-9895078"/>
                  <a:lnTo>
                    <a:pt x="1451" y="16208"/>
                  </a:lnTo>
                  <a:arcTo wR="10800" hR="10800" stAng="8997103" swAng="9895078"/>
                  <a:lnTo>
                    <a:pt x="20324" y="1232"/>
                  </a:lnTo>
                  <a:lnTo>
                    <a:pt x="20338" y="7193"/>
                  </a:lnTo>
                  <a:lnTo>
                    <a:pt x="14378" y="720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rot="18687000">
              <a:off x="4828680" y="5477400"/>
              <a:ext cx="287280" cy="304920"/>
            </a:xfrm>
            <a:custGeom>
              <a:avLst/>
              <a:gdLst>
                <a:gd name="textAreaLeft" fmla="*/ 360 w 287280"/>
                <a:gd name="textAreaRight" fmla="*/ 288000 w 2872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793" y="15197"/>
                  </a:moveTo>
                  <a:arcTo wR="-5327" hR="-5327" stAng="7461672" swAng="-9760257"/>
                  <a:lnTo>
                    <a:pt x="2326" y="17495"/>
                  </a:lnTo>
                  <a:arcTo wR="10800" hR="10800" stAng="8501416" swAng="9760257"/>
                  <a:lnTo>
                    <a:pt x="18420" y="-344"/>
                  </a:lnTo>
                  <a:lnTo>
                    <a:pt x="19839" y="7212"/>
                  </a:lnTo>
                  <a:lnTo>
                    <a:pt x="12283" y="863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>
            <a:hlinkClick r:id="rId4" action="ppaction://hlinksldjump"/>
          </p:cNvPr>
          <p:cNvSpPr/>
          <p:nvPr/>
        </p:nvSpPr>
        <p:spPr>
          <a:xfrm>
            <a:off x="7775640" y="6386400"/>
            <a:ext cx="1042920" cy="41436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4360"/>
              <a:gd name="textAreaBottom" fmla="*/ 387720 h 414360"/>
            </a:gdLst>
            <a:ahLst/>
            <a:rect l="textAreaLeft" t="textAreaTop" r="textAreaRight" b="textAreaBottom"/>
            <a:pathLst>
              <a:path w="54338" h="21600">
                <a:moveTo>
                  <a:pt x="0" y="0"/>
                </a:moveTo>
                <a:lnTo>
                  <a:pt x="54338" y="0"/>
                </a:lnTo>
                <a:lnTo>
                  <a:pt x="54338" y="21600"/>
                </a:lnTo>
                <a:lnTo>
                  <a:pt x="0" y="21600"/>
                </a:lnTo>
                <a:close/>
              </a:path>
              <a:path fill="lightenLess" w="54338" h="21600">
                <a:moveTo>
                  <a:pt x="0" y="0"/>
                </a:moveTo>
                <a:lnTo>
                  <a:pt x="54338" y="0"/>
                </a:lnTo>
                <a:lnTo>
                  <a:pt x="52938" y="1400"/>
                </a:lnTo>
                <a:lnTo>
                  <a:pt x="1400" y="1400"/>
                </a:lnTo>
                <a:close/>
              </a:path>
              <a:path fill="darken" w="54338" h="21600">
                <a:moveTo>
                  <a:pt x="54338" y="0"/>
                </a:moveTo>
                <a:lnTo>
                  <a:pt x="54338" y="21600"/>
                </a:lnTo>
                <a:lnTo>
                  <a:pt x="52938" y="20200"/>
                </a:lnTo>
                <a:lnTo>
                  <a:pt x="52938" y="1400"/>
                </a:lnTo>
                <a:close/>
              </a:path>
              <a:path fill="darkenLess" w="54338" h="21600">
                <a:moveTo>
                  <a:pt x="54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938" y="20200"/>
                </a:lnTo>
                <a:close/>
              </a:path>
              <a:path fill="lighten" w="54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222960" y="2940120"/>
            <a:ext cx="2235240" cy="365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39800" y="2954160"/>
            <a:ext cx="130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79440" y="2954160"/>
            <a:ext cx="251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(</a:t>
            </a: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–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22960" y="3367080"/>
            <a:ext cx="1295280" cy="365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81600" y="3430440"/>
            <a:ext cx="139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–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97760" y="4159080"/>
            <a:ext cx="1752480" cy="365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40320" y="4162320"/>
            <a:ext cx="1102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79440" y="4162320"/>
            <a:ext cx="266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–3</a:t>
            </a: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97760" y="4586400"/>
            <a:ext cx="1447560" cy="365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81600" y="4630680"/>
            <a:ext cx="1242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–7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15040" y="2130480"/>
            <a:ext cx="1371600" cy="365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81960" y="2179800"/>
            <a:ext cx="1222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–3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97760" y="1703520"/>
            <a:ext cx="2286000" cy="365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23600" y="1722600"/>
            <a:ext cx="13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a50a1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79440" y="1720800"/>
            <a:ext cx="236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70680" y="4560840"/>
            <a:ext cx="167616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65800" y="4565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45120" y="4084560"/>
            <a:ext cx="198144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3317760"/>
            <a:ext cx="153684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21440" y="2825640"/>
            <a:ext cx="238752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51680" y="2108160"/>
            <a:ext cx="147960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1623960"/>
            <a:ext cx="250200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70480" y="1670040"/>
            <a:ext cx="21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Distribute th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3</a:t>
            </a: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812880"/>
            <a:ext cx="713736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65800" y="21207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66520" y="2906640"/>
            <a:ext cx="21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Distribute th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2</a:t>
            </a: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83440" y="335124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67960" y="412596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1a1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a51a1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a51a1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a51a1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a51a1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a51a1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22200" y="192240"/>
            <a:ext cx="6300360" cy="469800"/>
            <a:chOff x="322200" y="192240"/>
            <a:chExt cx="6300360" cy="469800"/>
          </a:xfrm>
        </p:grpSpPr>
        <p:sp>
          <p:nvSpPr>
            <p:cNvPr id="187" name=""/>
            <p:cNvSpPr/>
            <p:nvPr/>
          </p:nvSpPr>
          <p:spPr>
            <a:xfrm>
              <a:off x="1700640" y="192240"/>
              <a:ext cx="4921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THE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STRIBUTIVE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322200" y="20160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>
            <a:off x="1752480" y="60948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14680" y="915840"/>
            <a:ext cx="69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ember that a factor must multiply each term of an expre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89120" y="5334120"/>
            <a:ext cx="7023240" cy="74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getting to distribute the negative sign when multiplying by a negative factor is a common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7775640" y="6386400"/>
            <a:ext cx="1042920" cy="41436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4360"/>
              <a:gd name="textAreaBottom" fmla="*/ 387720 h 414360"/>
            </a:gdLst>
            <a:ahLst/>
            <a:rect l="textAreaLeft" t="textAreaTop" r="textAreaRight" b="textAreaBottom"/>
            <a:pathLst>
              <a:path w="54338" h="21600">
                <a:moveTo>
                  <a:pt x="0" y="0"/>
                </a:moveTo>
                <a:lnTo>
                  <a:pt x="54338" y="0"/>
                </a:lnTo>
                <a:lnTo>
                  <a:pt x="54338" y="21600"/>
                </a:lnTo>
                <a:lnTo>
                  <a:pt x="0" y="21600"/>
                </a:lnTo>
                <a:close/>
              </a:path>
              <a:path fill="lightenLess" w="54338" h="21600">
                <a:moveTo>
                  <a:pt x="0" y="0"/>
                </a:moveTo>
                <a:lnTo>
                  <a:pt x="54338" y="0"/>
                </a:lnTo>
                <a:lnTo>
                  <a:pt x="52938" y="1400"/>
                </a:lnTo>
                <a:lnTo>
                  <a:pt x="1400" y="1400"/>
                </a:lnTo>
                <a:close/>
              </a:path>
              <a:path fill="darken" w="54338" h="21600">
                <a:moveTo>
                  <a:pt x="54338" y="0"/>
                </a:moveTo>
                <a:lnTo>
                  <a:pt x="54338" y="21600"/>
                </a:lnTo>
                <a:lnTo>
                  <a:pt x="52938" y="20200"/>
                </a:lnTo>
                <a:lnTo>
                  <a:pt x="52938" y="1400"/>
                </a:lnTo>
                <a:close/>
              </a:path>
              <a:path fill="darkenLess" w="54338" h="21600">
                <a:moveTo>
                  <a:pt x="54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938" y="20200"/>
                </a:lnTo>
                <a:close/>
              </a:path>
              <a:path fill="lighten" w="54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8253" t="8831" r="18230" b="8802"/>
          <a:stretch/>
        </p:blipFill>
        <p:spPr>
          <a:xfrm>
            <a:off x="165240" y="1125360"/>
            <a:ext cx="4494240" cy="4561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>
            <a:lum bright="70000" contrast="-70000"/>
          </a:blip>
          <a:srcRect l="18253" t="8831" r="18230" b="8802"/>
          <a:stretch/>
        </p:blipFill>
        <p:spPr>
          <a:xfrm>
            <a:off x="136440" y="1079640"/>
            <a:ext cx="4494240" cy="45608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724280" y="4984920"/>
            <a:ext cx="3353040" cy="533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73520" y="4908600"/>
            <a:ext cx="3467160" cy="63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41920" y="5075280"/>
            <a:ext cx="34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Find the difference ment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89360" y="996840"/>
            <a:ext cx="3822840" cy="1193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24280" y="4311720"/>
            <a:ext cx="3213360" cy="546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60920" y="4260960"/>
            <a:ext cx="33274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41920" y="4398840"/>
            <a:ext cx="33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Find the products ment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3676680"/>
            <a:ext cx="340380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35360" y="3613320"/>
            <a:ext cx="3606840" cy="63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02240" y="933480"/>
            <a:ext cx="4008240" cy="13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78200" y="1454040"/>
            <a:ext cx="397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The mental math is easier if you think of $11.95 as $12.00 – $.0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2908440"/>
            <a:ext cx="33400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22760" y="2844720"/>
            <a:ext cx="3581280" cy="7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24280" y="2979720"/>
            <a:ext cx="36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Writ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.95</a:t>
            </a: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 as a differ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311120"/>
            <a:ext cx="3962520" cy="415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3920" y="1379520"/>
            <a:ext cx="347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shopping for C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buy six 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$11.95 e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9760" y="3776760"/>
            <a:ext cx="367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distributiv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culate the total c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3816360"/>
            <a:ext cx="37339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6160" y="2978280"/>
            <a:ext cx="31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.9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6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0.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3716280"/>
            <a:ext cx="341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Use the distributive prope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12960" y="3670200"/>
            <a:ext cx="22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6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9880" y="436248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72 – 0.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7560" y="4807080"/>
            <a:ext cx="1084320" cy="915840"/>
          </a:xfrm>
          <a:prstGeom prst="irregularSeal1">
            <a:avLst/>
          </a:prstGeom>
          <a:gradFill rotWithShape="0">
            <a:gsLst>
              <a:gs pos="0">
                <a:srgbClr val="fefee7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54000" y="50356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71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368000" y="5486400"/>
            <a:ext cx="6252120" cy="915840"/>
            <a:chOff x="1368000" y="5486400"/>
            <a:chExt cx="6252120" cy="915840"/>
          </a:xfrm>
        </p:grpSpPr>
        <p:sp>
          <p:nvSpPr>
            <p:cNvPr id="221" name=""/>
            <p:cNvSpPr/>
            <p:nvPr/>
          </p:nvSpPr>
          <p:spPr>
            <a:xfrm>
              <a:off x="6400800" y="5486400"/>
              <a:ext cx="1219320" cy="915840"/>
            </a:xfrm>
            <a:prstGeom prst="irregularSeal1">
              <a:avLst/>
            </a:prstGeom>
            <a:gradFill rotWithShape="0">
              <a:gsLst>
                <a:gs pos="0">
                  <a:srgbClr val="fefee7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68000" y="5715000"/>
              <a:ext cx="613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tal cost of 6 CDs at $11.95 each is $71.70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22200" y="192240"/>
            <a:ext cx="5563440" cy="469800"/>
            <a:chOff x="322200" y="192240"/>
            <a:chExt cx="5563440" cy="469800"/>
          </a:xfrm>
        </p:grpSpPr>
        <p:sp>
          <p:nvSpPr>
            <p:cNvPr id="224" name=""/>
            <p:cNvSpPr/>
            <p:nvPr/>
          </p:nvSpPr>
          <p:spPr>
            <a:xfrm>
              <a:off x="1701360" y="192240"/>
              <a:ext cx="4184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TA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H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LCUL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4"/>
            <a:stretch/>
          </p:blipFill>
          <p:spPr>
            <a:xfrm>
              <a:off x="322200" y="20160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/>
          <p:cNvSpPr/>
          <p:nvPr/>
        </p:nvSpPr>
        <p:spPr>
          <a:xfrm>
            <a:off x="1752480" y="60948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73520" y="10224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5" action="ppaction://hlinksldjump"/>
          </p:cNvPr>
          <p:cNvSpPr/>
          <p:nvPr/>
        </p:nvSpPr>
        <p:spPr>
          <a:xfrm>
            <a:off x="7775640" y="6386400"/>
            <a:ext cx="1042920" cy="41436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4360"/>
              <a:gd name="textAreaBottom" fmla="*/ 387720 h 414360"/>
            </a:gdLst>
            <a:ahLst/>
            <a:rect l="textAreaLeft" t="textAreaTop" r="textAreaRight" b="textAreaBottom"/>
            <a:pathLst>
              <a:path w="54338" h="21600">
                <a:moveTo>
                  <a:pt x="0" y="0"/>
                </a:moveTo>
                <a:lnTo>
                  <a:pt x="54338" y="0"/>
                </a:lnTo>
                <a:lnTo>
                  <a:pt x="54338" y="21600"/>
                </a:lnTo>
                <a:lnTo>
                  <a:pt x="0" y="21600"/>
                </a:lnTo>
                <a:close/>
              </a:path>
              <a:path fill="lightenLess" w="54338" h="21600">
                <a:moveTo>
                  <a:pt x="0" y="0"/>
                </a:moveTo>
                <a:lnTo>
                  <a:pt x="54338" y="0"/>
                </a:lnTo>
                <a:lnTo>
                  <a:pt x="52938" y="1400"/>
                </a:lnTo>
                <a:lnTo>
                  <a:pt x="1400" y="1400"/>
                </a:lnTo>
                <a:close/>
              </a:path>
              <a:path fill="darken" w="54338" h="21600">
                <a:moveTo>
                  <a:pt x="54338" y="0"/>
                </a:moveTo>
                <a:lnTo>
                  <a:pt x="54338" y="21600"/>
                </a:lnTo>
                <a:lnTo>
                  <a:pt x="52938" y="20200"/>
                </a:lnTo>
                <a:lnTo>
                  <a:pt x="52938" y="1400"/>
                </a:lnTo>
                <a:close/>
              </a:path>
              <a:path fill="darkenLess" w="54338" h="21600">
                <a:moveTo>
                  <a:pt x="54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938" y="20200"/>
                </a:lnTo>
                <a:close/>
              </a:path>
              <a:path fill="lighten" w="54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346040" y="212760"/>
            <a:ext cx="545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IFYING B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MBIN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K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76040" y="227160"/>
            <a:ext cx="1097280" cy="433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460520" y="6224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3600" y="770040"/>
            <a:ext cx="8381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3600" y="846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f these terms is the product of a number and a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735200" y="846000"/>
            <a:ext cx="3446640" cy="1233360"/>
            <a:chOff x="1735200" y="846000"/>
            <a:chExt cx="3446640" cy="1233360"/>
          </a:xfrm>
        </p:grpSpPr>
        <p:grpSp>
          <p:nvGrpSpPr>
            <p:cNvPr id="236" name=""/>
            <p:cNvGrpSpPr/>
            <p:nvPr/>
          </p:nvGrpSpPr>
          <p:grpSpPr>
            <a:xfrm>
              <a:off x="1735200" y="846000"/>
              <a:ext cx="2209680" cy="470160"/>
              <a:chOff x="1735200" y="846000"/>
              <a:chExt cx="2209680" cy="470160"/>
            </a:xfrm>
          </p:grpSpPr>
          <p:sp>
            <p:nvSpPr>
              <p:cNvPr id="237" name=""/>
              <p:cNvSpPr/>
              <p:nvPr/>
            </p:nvSpPr>
            <p:spPr>
              <a:xfrm>
                <a:off x="2433600" y="858960"/>
                <a:ext cx="800280" cy="4572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35200" y="846000"/>
                <a:ext cx="220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term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436560" y="1558800"/>
              <a:ext cx="1745280" cy="520560"/>
              <a:chOff x="3436560" y="1558800"/>
              <a:chExt cx="1745280" cy="520560"/>
            </a:xfrm>
          </p:grpSpPr>
          <p:sp>
            <p:nvSpPr>
              <p:cNvPr id="240" name=""/>
              <p:cNvSpPr/>
              <p:nvPr/>
            </p:nvSpPr>
            <p:spPr>
              <a:xfrm>
                <a:off x="4074840" y="155880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436560" y="15588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44280" y="15588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740480" y="1558800"/>
                <a:ext cx="44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30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29880" y="15588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3436560" y="1558800"/>
            <a:ext cx="1745280" cy="520560"/>
            <a:chOff x="3436560" y="1558800"/>
            <a:chExt cx="1745280" cy="520560"/>
          </a:xfrm>
        </p:grpSpPr>
        <p:sp>
          <p:nvSpPr>
            <p:cNvPr id="246" name=""/>
            <p:cNvSpPr/>
            <p:nvPr/>
          </p:nvSpPr>
          <p:spPr>
            <a:xfrm>
              <a:off x="4074840" y="15588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36560" y="1558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44280" y="1558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40480" y="1558800"/>
              <a:ext cx="44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30240" y="155880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238560" y="846000"/>
            <a:ext cx="3868560" cy="1274760"/>
            <a:chOff x="3238560" y="846000"/>
            <a:chExt cx="3868560" cy="1274760"/>
          </a:xfrm>
        </p:grpSpPr>
        <p:sp>
          <p:nvSpPr>
            <p:cNvPr id="252" name=""/>
            <p:cNvSpPr/>
            <p:nvPr/>
          </p:nvSpPr>
          <p:spPr>
            <a:xfrm>
              <a:off x="5481720" y="871560"/>
              <a:ext cx="100332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97440" y="84600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3238560" y="1511280"/>
              <a:ext cx="2108160" cy="609480"/>
              <a:chOff x="3238560" y="1511280"/>
              <a:chExt cx="2108160" cy="6094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38560" y="1511280"/>
                <a:ext cx="210816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3436560" y="1558800"/>
                <a:ext cx="1745280" cy="520560"/>
                <a:chOff x="3436560" y="1558800"/>
                <a:chExt cx="1745280" cy="5205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074840" y="1558800"/>
                  <a:ext cx="380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436560" y="15588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–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544280" y="15588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740480" y="1558800"/>
                  <a:ext cx="441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r>
                    <a:rPr b="0" i="1" lang="en-US" sz="28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630240" y="1558800"/>
                  <a:ext cx="337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2" name=""/>
          <p:cNvGrpSpPr/>
          <p:nvPr/>
        </p:nvGrpSpPr>
        <p:grpSpPr>
          <a:xfrm>
            <a:off x="3238560" y="846000"/>
            <a:ext cx="5709960" cy="1274760"/>
            <a:chOff x="3238560" y="846000"/>
            <a:chExt cx="5709960" cy="1274760"/>
          </a:xfrm>
        </p:grpSpPr>
        <p:sp>
          <p:nvSpPr>
            <p:cNvPr id="263" name=""/>
            <p:cNvSpPr/>
            <p:nvPr/>
          </p:nvSpPr>
          <p:spPr>
            <a:xfrm>
              <a:off x="7246800" y="871560"/>
              <a:ext cx="120636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38840" y="84600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3238560" y="1511280"/>
              <a:ext cx="2108160" cy="609480"/>
              <a:chOff x="3238560" y="1511280"/>
              <a:chExt cx="2108160" cy="609480"/>
            </a:xfrm>
          </p:grpSpPr>
          <p:sp>
            <p:nvSpPr>
              <p:cNvPr id="266" name=""/>
              <p:cNvSpPr/>
              <p:nvPr/>
            </p:nvSpPr>
            <p:spPr>
              <a:xfrm>
                <a:off x="3238560" y="1511280"/>
                <a:ext cx="210816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3436560" y="1558800"/>
                <a:ext cx="1745280" cy="520560"/>
                <a:chOff x="3436560" y="1558800"/>
                <a:chExt cx="1745280" cy="5205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074840" y="1558800"/>
                  <a:ext cx="380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436560" y="15588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–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544280" y="15588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740480" y="1558800"/>
                  <a:ext cx="441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r>
                    <a:rPr b="1" i="1" lang="en-US" sz="28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629880" y="15588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3" name=""/>
          <p:cNvGrpSpPr/>
          <p:nvPr/>
        </p:nvGrpSpPr>
        <p:grpSpPr>
          <a:xfrm>
            <a:off x="1282680" y="2060640"/>
            <a:ext cx="5930640" cy="1523520"/>
            <a:chOff x="1282680" y="2060640"/>
            <a:chExt cx="5930640" cy="1523520"/>
          </a:xfrm>
        </p:grpSpPr>
        <p:grpSp>
          <p:nvGrpSpPr>
            <p:cNvPr id="274" name=""/>
            <p:cNvGrpSpPr/>
            <p:nvPr/>
          </p:nvGrpSpPr>
          <p:grpSpPr>
            <a:xfrm>
              <a:off x="1282680" y="2060640"/>
              <a:ext cx="2743200" cy="1509840"/>
              <a:chOff x="1282680" y="2060640"/>
              <a:chExt cx="2743200" cy="1509840"/>
            </a:xfrm>
          </p:grpSpPr>
          <p:sp>
            <p:nvSpPr>
              <p:cNvPr id="275" name=""/>
              <p:cNvSpPr/>
              <p:nvPr/>
            </p:nvSpPr>
            <p:spPr>
              <a:xfrm>
                <a:off x="1282680" y="2732040"/>
                <a:ext cx="2590920" cy="838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ts val="27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e000d"/>
                    </a:solidFill>
                    <a:latin typeface="Times New Roman"/>
                  </a:rPr>
                  <a:t>–</a:t>
                </a:r>
                <a:r>
                  <a:rPr b="1" lang="en-US" sz="2800" spc="-1" strike="noStrike">
                    <a:solidFill>
                      <a:srgbClr val="fe000d"/>
                    </a:solidFill>
                    <a:latin typeface="Times New Roman"/>
                  </a:rPr>
                  <a:t>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is the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7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oefficient of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387960" y="2060640"/>
                <a:ext cx="637920" cy="671400"/>
              </a:xfrm>
              <a:prstGeom prst="upArrow">
                <a:avLst>
                  <a:gd name="adj1" fmla="val 49750"/>
                  <a:gd name="adj2" fmla="val 35633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470480" y="2060640"/>
              <a:ext cx="2742840" cy="1523520"/>
              <a:chOff x="4470480" y="2060640"/>
              <a:chExt cx="2742840" cy="1523520"/>
            </a:xfrm>
          </p:grpSpPr>
          <p:sp>
            <p:nvSpPr>
              <p:cNvPr id="278" name=""/>
              <p:cNvSpPr/>
              <p:nvPr/>
            </p:nvSpPr>
            <p:spPr>
              <a:xfrm flipH="1">
                <a:off x="4622040" y="2738160"/>
                <a:ext cx="2590920" cy="84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ts val="27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is the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7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oefficient of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4470480" y="2060640"/>
                <a:ext cx="637920" cy="677520"/>
              </a:xfrm>
              <a:prstGeom prst="upArrow">
                <a:avLst>
                  <a:gd name="adj1" fmla="val 49750"/>
                  <a:gd name="adj2" fmla="val 35958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"/>
          <p:cNvGrpSpPr/>
          <p:nvPr/>
        </p:nvGrpSpPr>
        <p:grpSpPr>
          <a:xfrm>
            <a:off x="1282680" y="2060640"/>
            <a:ext cx="5930640" cy="1523520"/>
            <a:chOff x="1282680" y="2060640"/>
            <a:chExt cx="5930640" cy="1523520"/>
          </a:xfrm>
        </p:grpSpPr>
        <p:grpSp>
          <p:nvGrpSpPr>
            <p:cNvPr id="281" name=""/>
            <p:cNvGrpSpPr/>
            <p:nvPr/>
          </p:nvGrpSpPr>
          <p:grpSpPr>
            <a:xfrm>
              <a:off x="1282680" y="2060640"/>
              <a:ext cx="2743200" cy="1509840"/>
              <a:chOff x="1282680" y="2060640"/>
              <a:chExt cx="2743200" cy="1509840"/>
            </a:xfrm>
          </p:grpSpPr>
          <p:sp>
            <p:nvSpPr>
              <p:cNvPr id="282" name=""/>
              <p:cNvSpPr/>
              <p:nvPr/>
            </p:nvSpPr>
            <p:spPr>
              <a:xfrm>
                <a:off x="1282680" y="2732040"/>
                <a:ext cx="2590920" cy="838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87960" y="2060640"/>
                <a:ext cx="637920" cy="671400"/>
              </a:xfrm>
              <a:prstGeom prst="upArrow">
                <a:avLst>
                  <a:gd name="adj1" fmla="val 49750"/>
                  <a:gd name="adj2" fmla="val 35633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470480" y="2060640"/>
              <a:ext cx="2742840" cy="1523520"/>
              <a:chOff x="4470480" y="2060640"/>
              <a:chExt cx="2742840" cy="1523520"/>
            </a:xfrm>
          </p:grpSpPr>
          <p:sp>
            <p:nvSpPr>
              <p:cNvPr id="285" name=""/>
              <p:cNvSpPr/>
              <p:nvPr/>
            </p:nvSpPr>
            <p:spPr>
              <a:xfrm flipH="1">
                <a:off x="4622040" y="2738160"/>
                <a:ext cx="2590920" cy="84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4470480" y="2060640"/>
                <a:ext cx="637920" cy="677520"/>
              </a:xfrm>
              <a:prstGeom prst="upArrow">
                <a:avLst>
                  <a:gd name="adj1" fmla="val 49750"/>
                  <a:gd name="adj2" fmla="val 35958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1282680" y="2060640"/>
            <a:ext cx="5930640" cy="1523520"/>
            <a:chOff x="1282680" y="2060640"/>
            <a:chExt cx="5930640" cy="1523520"/>
          </a:xfrm>
        </p:grpSpPr>
        <p:grpSp>
          <p:nvGrpSpPr>
            <p:cNvPr id="288" name=""/>
            <p:cNvGrpSpPr/>
            <p:nvPr/>
          </p:nvGrpSpPr>
          <p:grpSpPr>
            <a:xfrm>
              <a:off x="1282680" y="2060640"/>
              <a:ext cx="2743200" cy="1509840"/>
              <a:chOff x="1282680" y="2060640"/>
              <a:chExt cx="2743200" cy="1509840"/>
            </a:xfrm>
          </p:grpSpPr>
          <p:sp>
            <p:nvSpPr>
              <p:cNvPr id="289" name=""/>
              <p:cNvSpPr/>
              <p:nvPr/>
            </p:nvSpPr>
            <p:spPr>
              <a:xfrm>
                <a:off x="1282680" y="2732040"/>
                <a:ext cx="2590920" cy="838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ts val="27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is the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7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variable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7960" y="2060640"/>
                <a:ext cx="637920" cy="671400"/>
              </a:xfrm>
              <a:prstGeom prst="upArrow">
                <a:avLst>
                  <a:gd name="adj1" fmla="val 49750"/>
                  <a:gd name="adj2" fmla="val 35633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4470480" y="2060640"/>
              <a:ext cx="2742840" cy="1523520"/>
              <a:chOff x="4470480" y="2060640"/>
              <a:chExt cx="2742840" cy="152352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4622040" y="2738160"/>
                <a:ext cx="2590920" cy="84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ts val="27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is the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7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variable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4470480" y="2060640"/>
                <a:ext cx="637920" cy="677520"/>
              </a:xfrm>
              <a:prstGeom prst="upArrow">
                <a:avLst>
                  <a:gd name="adj1" fmla="val 49750"/>
                  <a:gd name="adj2" fmla="val 35958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87280" y="711360"/>
            <a:ext cx="8514000" cy="761760"/>
            <a:chOff x="287280" y="711360"/>
            <a:chExt cx="8514000" cy="761760"/>
          </a:xfrm>
        </p:grpSpPr>
        <p:sp>
          <p:nvSpPr>
            <p:cNvPr id="295" name=""/>
            <p:cNvSpPr/>
            <p:nvPr/>
          </p:nvSpPr>
          <p:spPr>
            <a:xfrm>
              <a:off x="287280" y="711360"/>
              <a:ext cx="85140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3600" y="846000"/>
              <a:ext cx="83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ach of these terms is the product of a number and a variab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336760" y="4394160"/>
            <a:ext cx="3387240" cy="1233720"/>
            <a:chOff x="2336760" y="4394160"/>
            <a:chExt cx="3387240" cy="1233720"/>
          </a:xfrm>
        </p:grpSpPr>
        <p:grpSp>
          <p:nvGrpSpPr>
            <p:cNvPr id="298" name=""/>
            <p:cNvGrpSpPr/>
            <p:nvPr/>
          </p:nvGrpSpPr>
          <p:grpSpPr>
            <a:xfrm>
              <a:off x="2336760" y="4394160"/>
              <a:ext cx="3387240" cy="1190520"/>
              <a:chOff x="2336760" y="4394160"/>
              <a:chExt cx="3387240" cy="1190520"/>
            </a:xfrm>
          </p:grpSpPr>
          <p:sp>
            <p:nvSpPr>
              <p:cNvPr id="299" name=""/>
              <p:cNvSpPr/>
              <p:nvPr/>
            </p:nvSpPr>
            <p:spPr>
              <a:xfrm>
                <a:off x="2336760" y="4394160"/>
                <a:ext cx="549000" cy="976320"/>
              </a:xfrm>
              <a:prstGeom prst="upArrow">
                <a:avLst>
                  <a:gd name="adj1" fmla="val 50000"/>
                  <a:gd name="adj2" fmla="val 44459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177880" y="4394160"/>
                <a:ext cx="546120" cy="976320"/>
              </a:xfrm>
              <a:prstGeom prst="upArrow">
                <a:avLst>
                  <a:gd name="adj1" fmla="val 50000"/>
                  <a:gd name="adj2" fmla="val 44693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475360" y="4898880"/>
                <a:ext cx="3112920" cy="6858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2629800" y="5046480"/>
              <a:ext cx="47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30000">
                  <a:solidFill>
                    <a:srgbClr val="008f62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18760" y="5046480"/>
              <a:ext cx="47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30000">
                  <a:solidFill>
                    <a:srgbClr val="008f62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723960" y="4356000"/>
            <a:ext cx="8039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092400" y="4381560"/>
            <a:ext cx="3576600" cy="1257480"/>
            <a:chOff x="3092400" y="4381560"/>
            <a:chExt cx="3576600" cy="1257480"/>
          </a:xfrm>
        </p:grpSpPr>
        <p:grpSp>
          <p:nvGrpSpPr>
            <p:cNvPr id="306" name=""/>
            <p:cNvGrpSpPr/>
            <p:nvPr/>
          </p:nvGrpSpPr>
          <p:grpSpPr>
            <a:xfrm>
              <a:off x="3092400" y="4381560"/>
              <a:ext cx="3576600" cy="1214280"/>
              <a:chOff x="3092400" y="4381560"/>
              <a:chExt cx="3576600" cy="1214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092400" y="4381560"/>
                <a:ext cx="601560" cy="976320"/>
              </a:xfrm>
              <a:prstGeom prst="upArrow">
                <a:avLst>
                  <a:gd name="adj1" fmla="val 50000"/>
                  <a:gd name="adj2" fmla="val 40575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059520" y="4381560"/>
                <a:ext cx="609480" cy="976320"/>
              </a:xfrm>
              <a:prstGeom prst="upArrow">
                <a:avLst>
                  <a:gd name="adj1" fmla="val 50000"/>
                  <a:gd name="adj2" fmla="val 4004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240000" y="4910040"/>
                <a:ext cx="3276720" cy="6858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3402000" y="5057640"/>
              <a:ext cx="47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0" lang="en-US" sz="3200" spc="-1" strike="noStrike" baseline="30000">
                  <a:solidFill>
                    <a:srgbClr val="008f62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16600" y="5057640"/>
              <a:ext cx="47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0" lang="en-US" sz="3200" spc="-1" strike="noStrike" baseline="30000">
                  <a:solidFill>
                    <a:srgbClr val="008f62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33520" y="4368960"/>
            <a:ext cx="8001000" cy="13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8400" y="2044800"/>
            <a:ext cx="7124760" cy="16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1800" y="3162240"/>
            <a:ext cx="8344080" cy="58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1800" y="3225960"/>
            <a:ext cx="834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terms have the same variable raised to the same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6200" y="3895560"/>
            <a:ext cx="832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5 + 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68280" y="3162240"/>
            <a:ext cx="8069400" cy="585720"/>
            <a:chOff x="368280" y="3162240"/>
            <a:chExt cx="8069400" cy="585720"/>
          </a:xfrm>
        </p:grpSpPr>
        <p:sp>
          <p:nvSpPr>
            <p:cNvPr id="318" name=""/>
            <p:cNvSpPr/>
            <p:nvPr/>
          </p:nvSpPr>
          <p:spPr>
            <a:xfrm>
              <a:off x="368280" y="3162240"/>
              <a:ext cx="1839960" cy="58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00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06800" y="3263760"/>
              <a:ext cx="1041480" cy="4320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1920" y="322596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46880" y="3251160"/>
              <a:ext cx="1041480" cy="4320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56440" y="3225960"/>
              <a:ext cx="12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5875c"/>
                  </a:solidFill>
                  <a:latin typeface="Times New Roman"/>
                </a:rPr>
                <a:t>po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5200" y="3225960"/>
              <a:ext cx="167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ke ter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071000" y="4410000"/>
            <a:ext cx="7004880" cy="995400"/>
            <a:chOff x="1071000" y="4410000"/>
            <a:chExt cx="7004880" cy="995400"/>
          </a:xfrm>
        </p:grpSpPr>
        <p:sp>
          <p:nvSpPr>
            <p:cNvPr id="325" name=""/>
            <p:cNvSpPr/>
            <p:nvPr/>
          </p:nvSpPr>
          <p:spPr>
            <a:xfrm>
              <a:off x="1071000" y="4854600"/>
              <a:ext cx="7004880" cy="550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constant terms </a:t>
              </a:r>
              <a:r>
                <a:rPr b="0" lang="en-US" sz="3000" spc="-1" strike="noStrike">
                  <a:solidFill>
                    <a:srgbClr val="3333cc"/>
                  </a:solidFill>
                  <a:latin typeface="Times New Roman"/>
                </a:rPr>
                <a:t>–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lang="en-US" sz="30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 also like term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60640" y="4410000"/>
              <a:ext cx="609840" cy="53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95680" y="4410000"/>
              <a:ext cx="533520" cy="53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>
            <a:hlinkClick r:id="rId3" action="ppaction://hlinksldjump"/>
          </p:cNvPr>
          <p:cNvSpPr/>
          <p:nvPr/>
        </p:nvSpPr>
        <p:spPr>
          <a:xfrm>
            <a:off x="6635880" y="6365880"/>
            <a:ext cx="1042920" cy="449280"/>
          </a:xfrm>
          <a:custGeom>
            <a:avLst/>
            <a:gdLst>
              <a:gd name="textAreaLeft" fmla="*/ 28800 w 1042920"/>
              <a:gd name="textAreaRight" fmla="*/ 1014120 w 1042920"/>
              <a:gd name="textAreaTop" fmla="*/ 28800 h 449280"/>
              <a:gd name="textAreaBottom" fmla="*/ 420480 h 449280"/>
            </a:gdLst>
            <a:ahLst/>
            <a:rect l="textAreaLeft" t="textAreaTop" r="textAreaRight" b="textAreaBottom"/>
            <a:pathLst>
              <a:path w="50118" h="21600">
                <a:moveTo>
                  <a:pt x="0" y="0"/>
                </a:moveTo>
                <a:lnTo>
                  <a:pt x="50118" y="0"/>
                </a:lnTo>
                <a:lnTo>
                  <a:pt x="50118" y="21600"/>
                </a:lnTo>
                <a:lnTo>
                  <a:pt x="0" y="21600"/>
                </a:lnTo>
                <a:close/>
              </a:path>
              <a:path fill="lightenLess" w="50118" h="21600">
                <a:moveTo>
                  <a:pt x="0" y="0"/>
                </a:moveTo>
                <a:lnTo>
                  <a:pt x="50118" y="0"/>
                </a:lnTo>
                <a:lnTo>
                  <a:pt x="48718" y="1400"/>
                </a:lnTo>
                <a:lnTo>
                  <a:pt x="1400" y="1400"/>
                </a:lnTo>
                <a:close/>
              </a:path>
              <a:path fill="darken" w="50118" h="21600">
                <a:moveTo>
                  <a:pt x="50118" y="0"/>
                </a:moveTo>
                <a:lnTo>
                  <a:pt x="50118" y="21600"/>
                </a:lnTo>
                <a:lnTo>
                  <a:pt x="48718" y="20200"/>
                </a:lnTo>
                <a:lnTo>
                  <a:pt x="48718" y="1400"/>
                </a:lnTo>
                <a:close/>
              </a:path>
              <a:path fill="darkenLess" w="50118" h="21600">
                <a:moveTo>
                  <a:pt x="50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718" y="20200"/>
                </a:lnTo>
                <a:close/>
              </a:path>
              <a:path fill="lighten" w="50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5214960" y="5197320"/>
            <a:ext cx="2438280" cy="804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22880" y="4564080"/>
            <a:ext cx="11556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68880" y="4495680"/>
            <a:ext cx="1460520" cy="5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22880" y="3936960"/>
            <a:ext cx="211788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56280" y="3822840"/>
            <a:ext cx="2539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68880" y="3301920"/>
            <a:ext cx="374652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18120" y="3263760"/>
            <a:ext cx="389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68880" y="2687760"/>
            <a:ext cx="2468520" cy="436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18120" y="2666880"/>
            <a:ext cx="278136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16760" y="272412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68880" y="2098800"/>
            <a:ext cx="214632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79960" y="2057400"/>
            <a:ext cx="236844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68880" y="1467000"/>
            <a:ext cx="208296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00480" y="1436760"/>
            <a:ext cx="2590920" cy="49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68880" y="892080"/>
            <a:ext cx="346716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87880" y="801720"/>
            <a:ext cx="3809880" cy="6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22200" y="192240"/>
            <a:ext cx="6833160" cy="469800"/>
            <a:chOff x="322200" y="192240"/>
            <a:chExt cx="6833160" cy="469800"/>
          </a:xfrm>
        </p:grpSpPr>
        <p:sp>
          <p:nvSpPr>
            <p:cNvPr id="347" name=""/>
            <p:cNvSpPr/>
            <p:nvPr/>
          </p:nvSpPr>
          <p:spPr>
            <a:xfrm>
              <a:off x="1698840" y="192240"/>
              <a:ext cx="5456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PLIFYING BY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MBIN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KE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322200" y="20160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"/>
          <p:cNvSpPr/>
          <p:nvPr/>
        </p:nvSpPr>
        <p:spPr>
          <a:xfrm>
            <a:off x="1752480" y="60948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7880" y="2063880"/>
            <a:ext cx="19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 –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92760" y="92376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 + 3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81840" y="971640"/>
            <a:ext cx="342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Use the distributive prope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58320" y="144936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01640" y="150192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Add coeffici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30440" y="93672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03080" y="21286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Group like te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18200" y="3343320"/>
            <a:ext cx="377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Rewrite as addition expre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30800" y="3936960"/>
            <a:ext cx="21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Distribute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2</a:t>
            </a:r>
            <a:r>
              <a:rPr b="0" lang="en-US" sz="2000" spc="-1" strike="noStrike">
                <a:solidFill>
                  <a:srgbClr val="0a51a1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58880" y="461160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62840" y="5237280"/>
            <a:ext cx="243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Combine like ter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and 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10760" y="2079720"/>
            <a:ext cx="16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6600ff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8f5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88200" y="267192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6600ff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8f5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4040" y="329400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93480" y="329580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+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4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75600" y="3909960"/>
            <a:ext cx="32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3 + [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4) +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77040" y="4559400"/>
            <a:ext cx="24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3 + (–8) + (–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878120" y="512928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5 + (–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78840" y="5638680"/>
            <a:ext cx="16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5   – 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rId3" action="ppaction://hlinksldjump"/>
          </p:cNvPr>
          <p:cNvSpPr/>
          <p:nvPr/>
        </p:nvSpPr>
        <p:spPr>
          <a:xfrm>
            <a:off x="6635880" y="6365880"/>
            <a:ext cx="1042920" cy="449280"/>
          </a:xfrm>
          <a:custGeom>
            <a:avLst/>
            <a:gdLst>
              <a:gd name="textAreaLeft" fmla="*/ 28800 w 1042920"/>
              <a:gd name="textAreaRight" fmla="*/ 1014120 w 1042920"/>
              <a:gd name="textAreaTop" fmla="*/ 28800 h 449280"/>
              <a:gd name="textAreaBottom" fmla="*/ 420480 h 449280"/>
            </a:gdLst>
            <a:ahLst/>
            <a:rect l="textAreaLeft" t="textAreaTop" r="textAreaRight" b="textAreaBottom"/>
            <a:pathLst>
              <a:path w="50118" h="21600">
                <a:moveTo>
                  <a:pt x="0" y="0"/>
                </a:moveTo>
                <a:lnTo>
                  <a:pt x="50118" y="0"/>
                </a:lnTo>
                <a:lnTo>
                  <a:pt x="50118" y="21600"/>
                </a:lnTo>
                <a:lnTo>
                  <a:pt x="0" y="21600"/>
                </a:lnTo>
                <a:close/>
              </a:path>
              <a:path fill="lightenLess" w="50118" h="21600">
                <a:moveTo>
                  <a:pt x="0" y="0"/>
                </a:moveTo>
                <a:lnTo>
                  <a:pt x="50118" y="0"/>
                </a:lnTo>
                <a:lnTo>
                  <a:pt x="48718" y="1400"/>
                </a:lnTo>
                <a:lnTo>
                  <a:pt x="1400" y="1400"/>
                </a:lnTo>
                <a:close/>
              </a:path>
              <a:path fill="darken" w="50118" h="21600">
                <a:moveTo>
                  <a:pt x="50118" y="0"/>
                </a:moveTo>
                <a:lnTo>
                  <a:pt x="50118" y="21600"/>
                </a:lnTo>
                <a:lnTo>
                  <a:pt x="48718" y="20200"/>
                </a:lnTo>
                <a:lnTo>
                  <a:pt x="48718" y="1400"/>
                </a:lnTo>
                <a:close/>
              </a:path>
              <a:path fill="darkenLess" w="50118" h="21600">
                <a:moveTo>
                  <a:pt x="50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718" y="20200"/>
                </a:lnTo>
                <a:close/>
              </a:path>
              <a:path fill="lighten" w="50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8280" y="1946160"/>
            <a:ext cx="833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3600" y="3179880"/>
            <a:ext cx="833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16:59:27Z</dcterms:created>
  <dc:creator>McDougal Littell</dc:creator>
  <dc:description/>
  <dc:language>en-US</dc:language>
  <cp:lastModifiedBy>y2k2pc</cp:lastModifiedBy>
  <cp:lastPrinted>1999-08-16T16:43:14Z</cp:lastPrinted>
  <dcterms:modified xsi:type="dcterms:W3CDTF">2000-04-03T19:07:54Z</dcterms:modified>
  <cp:revision>132</cp:revision>
  <dc:subject/>
  <dc:title>No Slide Title</dc:title>
</cp:coreProperties>
</file>